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FEF-2E74-4FEE-9B79-2192E8B0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813-7874-41DE-9E8F-240EA218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CA7-BA22-4A86-B5DD-29F0819C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BBE-F667-4CDE-9819-FBD362AA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FB8-6FC3-4BFF-8840-678CE14D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EB4F-0540-4C49-903F-25862698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F758-4EA2-4778-9414-6D6054B8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EAD0-BC36-40F3-BB46-991AAC4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692-1C6B-4E9C-8EBF-42082E90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240-1712-4EB6-B7A8-EA10EBB5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FEB-8785-4F20-A3A5-BD0A68C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17A-AFEE-43B3-8A39-3C46D613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B11F-90AC-42C8-A598-575EAFF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53A6-F770-4707-9669-DF31D58A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4F9-D570-4545-BDA9-4AB6881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3A0-01AB-461B-86DF-7028EAB0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5FF-EF7F-440E-9415-F8A76FBA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F56-F39C-4513-AC87-28C7262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D1B-A0DB-4E2B-AAA1-509CD6D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1F1-F2B0-43AE-B38F-F6E8BC5C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CE6-A03D-43A7-81BC-0D9053D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3CE-C788-4D85-B3E8-D74A9F4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BEA-3232-447C-82A8-61BF1E4E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BA3-669A-4B01-9BD9-9C5D985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EF2-5FF4-4B39-91D5-447AB2716D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EA1-742F-4156-8881-0BCF1D9C4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localcrank.files.wordpress.com/2009/07/ist2_4414731-sliced-bread.jpg&amp;imgrefurl=http://localcrank.wordpress.com/2009/07/07/today-in-history-15/&amp;usg=__JXLJ70oBDze68T2mU8L8YK0PHDU=&amp;h=380&amp;w=365&amp;sz=71&amp;hl=en&amp;start=5&amp;sig2=6wTV00kR1hPCq24r3ubemw&amp;um=1&amp;tbnid=cHvGCWX0ZnO09M:&amp;tbnh=123&amp;tbnw=118&amp;prev=/images%3Fq%3Dbread%26hl%3Den%26rlz%3D1G1GGLQ_ENUS344%26um%3D1&amp;ei=zHkYS_zUI8zQlAfa-ZyJAw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images.google.com/imgres?imgurl=http://adminstaff.vassar.edu/sttaylor/FAMINE/PT/riots.jpg&amp;imgrefurl=http://adminstaff.vassar.edu/sttaylor/FAMINE/PT/riots.html&amp;usg=__4IQ8Wc5aBC7rWYA-wrS7X7hQ9ok=&amp;h=392&amp;w=415&amp;sz=71&amp;hl=en&amp;start=4&amp;sig2=0RudC1-3MOd6OwfhPV3_hQ&amp;tbnid=7mjmrfAhCAXx4M:&amp;tbnh=118&amp;tbnw=125&amp;prev=/images%3Fq%3Dpeasant%2Bfood%2Briots%26gbv%3D2%26ndsp%3D20%26hl%3Den%26sa%3DN&amp;ei=QH0YS9-HDIvT8QbnuZTpAw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images.google.com/imgres?imgurl=http://needled.files.wordpress.com/2009/08/arcimboldo_vegetables.jpg&amp;imgrefurl=http://needled.wordpress.com/2009/08/&amp;usg=__TIHdP1eqbcXndGI49jISuVPnzyc=&amp;h=2000&amp;w=1504&amp;sz=682&amp;hl=en&amp;start=12&amp;sig2=X-pmMEatsAJcZpSBw107Rg&amp;tbnid=lrOtPdRTmRZ3yM:&amp;tbnh=150&amp;tbnw=113&amp;prev=/images%3Fq%3Dvegetables%26gbv%3D2%26ndsp%3D20%26hl%3Den%26sa%3DN&amp;ei=Z3wYS8CsMpHk8Aai6sTaAw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images.google.com/imgres?imgurl=http://successhealthnews.com/wp-content/uploads/2008/09/meat.jpg&amp;imgrefurl=http://successhealthnews.com/%3Fp%3D70&amp;usg=__9LCoVxuqUwKKVaXl6ZHv04_7MbM=&amp;h=350&amp;w=472&amp;sz=18&amp;hl=en&amp;start=4&amp;sig2=9tcosKgezWaxbJUxoP8ECA&amp;tbnid=VrVMNRqZDPUN7M:&amp;tbnh=96&amp;tbnw=129&amp;prev=/images%3Fq%3Dmeat%26gbv%3D2%26hl%3Den&amp;ei=GXwYS_i0FY_S8QaciujYAw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od and Medical Pract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Fr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lan Bra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ts and Nutr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18th century, people still dependent on g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large amounts of bread-sometimes 2 pounds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o feel full, poor ate grains in soup, gr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In Northern Scotland, people ate half baked oatmeal-lasted in their stomach lo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56360" y="914400"/>
            <a:ext cx="17542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“Just price”: What the poor thought prices should be for protecting consumers and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Later in century, morality with prices decreases with free market economy, com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Supply and demand favored by government, econom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rices rise, harvests are poor-lead to food rio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easants, workers stop wagons, seize their g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51055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, rural in poverty ate most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the “poor people’s fo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s and beans ate the most, produced the most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vegetables ate in season: cabbages, carrots, wild gre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 rare, only in summer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533520"/>
            <a:ext cx="2057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 and H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loved meat,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less meat due to population increases-mor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transformation begins,-only Britain, Low Countries see increase in 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game laws-no hunting rabbits, dear, partri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nobles, landowners could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b, mutton usually eaten on religious 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52578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ch Diet (Officials, Aristocrat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“Rapacious carnivores”-dinners with many meats,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little to no fruits, vegetables-had more sauces, sweets and che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ormous overdrinking-The English squire known as “four-bottle 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rank over long periods-not too d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48720" y="3352680"/>
            <a:ext cx="108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dle Class (traders, craftsman, bureaucra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rket gardens had meats, vegetables, fruits-still brea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Northern Europe overall ate better than South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glish generally ate more meat, French had bread and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2819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5:57Z</dcterms:created>
  <dc:creator>MNS</dc:creator>
  <dc:description/>
  <dc:language>en-US</dc:language>
  <cp:lastModifiedBy>MNS</cp:lastModifiedBy>
  <dcterms:modified xsi:type="dcterms:W3CDTF">2009-12-04T14:03:56Z</dcterms:modified>
  <cp:revision>7</cp:revision>
  <dc:subject/>
  <dc:title>Food and Medical Practice</dc:title>
</cp:coreProperties>
</file>